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E5B-B3EE-4B4F-9635-CE35CCBA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E0C-DB34-4EB9-9500-98C5F02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04C-3769-4BB1-8BB0-26AB04F2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46B-0ECB-48CF-99A1-EF99A2DA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28D-6BEA-4A8B-BBE2-0EA439A4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19DB-1C49-4B68-89D3-65C885DA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E035-CB36-4256-B292-8294D272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52F-B30B-4EA6-B916-95174EA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2A3-4F01-4F04-8A18-60EBC4F5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D0C-BCDD-4E31-8B86-3944A0D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5FC-9129-46A8-B1B6-EC651553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0E1-98DC-453A-B639-C51552B6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24AB-1EA5-44F9-8CDA-5C6B7B80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05120"/>
            <a:ext cx="4953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at is Language Stu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tage in a lesson where students and teachers focus in on (on the construction of) a specific feature of the language in order to understand it b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3886200"/>
            <a:ext cx="5029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at is the goal of Language Stu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crease knowledge of the language system so that the longer-term aim of improving productive and receptive skills can be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752480"/>
            <a:ext cx="533412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ays through which students can learn a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classroom under the direction of a te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 language on their own - Autonomous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429000"/>
            <a:ext cx="5029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Language Study focusing on structure and use of language fo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phology of forms (is, am, b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of phrases, clauses &amp; sent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ing a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5029200"/>
            <a:ext cx="2438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r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udy of written and spoken text constr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905120"/>
            <a:ext cx="52578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Language Study Techniq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emonstr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on which shows the language in action; modelling; pictures and re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Expla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agrams; grammatical expla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Disco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 out a grammar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Accu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oduction repeat new words, phrases, or sentences in a controlled way, correct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Immediate creati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their 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676520"/>
            <a:ext cx="495324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hen do we focus on any necessary language forms? Before, during or after the performance of a communicative task or a receptive skills activ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1: study language in a variety of ways, then explore a topic, and then use what students have learnt to perform a tas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2: during a task-based sequence (focus on 1 or 2 past tense forms in the middle of an extended narrative-writing task – describe weather in the middle of a holiday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ach 3: After the students have performed the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when not planned, opportunities arise (a student wants to kno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05120"/>
            <a:ext cx="495324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Teach Known or unknown langu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stud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beg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ith some degree of linguistic knowledge and ability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learn at different speeds and in different 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ability’ cla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1828800"/>
            <a:ext cx="495324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, what do we teach?  What do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find out what our students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Ways of avoiding teaching already Know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tudents perform tasks and see how well they use the language forms in question before deciding to teach them as if they were n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cit the new language forms you wish them to stud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uccessful, no demonstration, no explanat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unsuccessful, teach the new language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1523880"/>
            <a:ext cx="548640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Choosing Stud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 a varied diet of exerc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tudents have different learning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Sustain student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Assess a language study activity for us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effective will it be? When take it in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Justify the time spent on it before and during the     les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.  Activity should demonstrate mea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.  Will it work with this grou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Evaluate a study activity after us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.  f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. inf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5562720"/>
            <a:ext cx="3352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Keep a record of your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Arial"/>
              </a:rPr>
              <a:t>Conduct your own action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19320" y="838080"/>
            <a:ext cx="693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University of Nicosia BA in English Language and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LALI 441 TE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44792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The practice of English Language Te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</a:rPr>
              <a:t>Studying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1905120"/>
            <a:ext cx="53341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Examples of language stud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ntroducing new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ight in space, pages 159-1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Discovery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iscovery activities, pages 161-1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ules and freedom, pages 162-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me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erfect one-liners, page 164-1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Example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 the queue, pages 166-1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6324480"/>
            <a:ext cx="54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. Salomi Papadima-Sophocle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r. Salomi Papadima-Sophocleou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36:32Z</dcterms:created>
  <dc:creator>Sofocleous</dc:creator>
  <dc:description/>
  <dc:language>en-US</dc:language>
  <cp:lastModifiedBy>Sofocleous</cp:lastModifiedBy>
  <dcterms:modified xsi:type="dcterms:W3CDTF">2008-03-04T18:58:48Z</dcterms:modified>
  <cp:revision>4</cp:revision>
  <dc:subject/>
  <dc:title>Slide 1</dc:title>
</cp:coreProperties>
</file>